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8B4-6580-4E38-9FEE-AC12B809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AE7-05C6-4C8A-9779-9C5B3B1E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9C5-06B3-41EA-870C-745DF773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A6E-BA73-485C-A1DA-E25B5C94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D0F-70B0-45EF-B9EC-77D3FE8F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CA8-0118-4C2D-8450-F508B80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937-0DF0-4805-93EF-C3ACF075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DA-528A-4D39-A47D-9A77377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253-0D9E-4180-A821-DB32CAB6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A5A-B0D6-477E-969D-9D20950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733-4D7E-4823-B0D1-729A22F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042-ABE5-425B-9203-FD2D3FD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2E9-C592-4E17-A050-E7DC51F25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5228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dashDot"/>
                  <a:miter/>
                </a:ln>
                <a:solidFill>
                  <a:srgbClr val="ffffff"/>
                </a:solidFill>
                <a:latin typeface="Script MT Bold"/>
              </a:rPr>
              <a:t>- Romance -</a:t>
            </a:r>
            <a:endParaRPr b="0" lang="en-US" sz="1800" spc="1" strike="noStrike">
              <a:ln w="9360">
                <a:solidFill>
                  <a:srgbClr val="ffffff"/>
                </a:solidFill>
                <a:prstDash val="dashDot"/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81520" y="3144960"/>
            <a:ext cx="4362480" cy="371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10280" y="2743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ifer Si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The Meaning Of Rom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cript MT Bold"/>
              </a:rPr>
              <a:t>Mov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5639040" cy="422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cript MT Bold"/>
              </a:rPr>
              <a:t>Stor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rle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400800" cy="359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791320" y="4495680"/>
            <a:ext cx="3105000" cy="20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Pristina"/>
              </a:rPr>
              <a:t>"A"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Pristina"/>
              <a:ea typeface="Pristi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64160" y="0"/>
            <a:ext cx="26798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952720"/>
            <a:ext cx="2666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Modern Romance No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640080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8006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3:59:19Z</dcterms:created>
  <dc:creator>Board of Education</dc:creator>
  <dc:description/>
  <dc:language>en-US</dc:language>
  <cp:lastModifiedBy>Board of Education</cp:lastModifiedBy>
  <dcterms:modified xsi:type="dcterms:W3CDTF">2011-03-16T14:29:34Z</dcterms:modified>
  <cp:revision>3</cp:revision>
  <dc:subject/>
  <dc:title>Slide 1</dc:title>
</cp:coreProperties>
</file>